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23B-7237-466E-9694-0CC8816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492-4A54-4D76-950E-2E0B58E3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856-E7D3-4A9A-BF1E-C773BA85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44E-C45F-4591-847A-1AEAD582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5E2-21C6-4534-A1C1-43438A78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98B-1342-4134-8B40-2F7B9C9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6BE-4A25-4A2D-BD95-F82223B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407-5FE1-4B37-AC21-BAC2AE8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489-D4D0-4FD6-8D13-7D9351B7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7E8-0F4E-452B-B7F4-74B9168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3EE-E63B-481D-B8E4-0EFD673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97B-8F5E-4346-B68C-91833E4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C6A-0A2B-49ED-8EFB-FC394CA7484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9520" y="2363760"/>
            <a:ext cx="582912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. La alimentación hum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6640" y="3348000"/>
            <a:ext cx="4368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imentación y la nutrición. 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alor energétic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necesidades energéticas del ser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iferentes 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ieta saludable y equili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stornos relacionados con la 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nservación y manipul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640" y="144360"/>
            <a:ext cx="61722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. La alimentación y la nutrición. Los nutrient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. Diferentes 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4640" y="684360"/>
            <a:ext cx="61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do ser vivo requie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teria externa para crear su propia ma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ergía para realizar las funciones v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404640" y="1400040"/>
            <a:ext cx="615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conjunto de procesos que realizamos para obtener la materia y energía necesaria y eliminar los residuos generados por su utilización. La nutri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proceso involuntario e inconsc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btiene la materia y energía de los nutri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04640" y="3059280"/>
            <a:ext cx="61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iment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ingerir alimentos para obtener de ellos los nutrientes necesarios mediante la digestión. La aliment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proceso voluntario y consc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porta casi todos los nutrientes necesarios, que están en los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404640" y="2556000"/>
            <a:ext cx="61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moléculas que necesitamos del exterior para crear nuestra propia materia y poder realizar las funciones vit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404640" y="3995640"/>
            <a:ext cx="61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iment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roducto que ingerimos para obtener de el nutrientes. Cada alimento está compuesto de diferentes nutrientes en diferentes propor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89000" y="571032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s de nutr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1197000" y="478800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270080" y="4859280"/>
            <a:ext cx="1512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orgánico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origen no orgá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68280" y="6299280"/>
            <a:ext cx="1584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gánico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fabrican seres v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2709720" y="4643280"/>
            <a:ext cx="73080" cy="93528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2781360" y="5651640"/>
            <a:ext cx="71280" cy="180000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2709720" y="46432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gu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medio donde ocurre la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709720" y="5203800"/>
            <a:ext cx="3888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Sales minerale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orman soluciones (agua + s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2781360" y="5651640"/>
            <a:ext cx="3384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o hidratos de carbono (CH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2781360" y="5994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Lípi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insolubles en agu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2781360" y="63547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roteín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límeros de 20 aminoáci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781360" y="6713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. nucleicos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límeros de 4 nucleóti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781360" y="70740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ípidos o nucleótidos indispens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709720" y="4915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xígeno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quema materia orgán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2" descr="santillanaT2001"/>
          <p:cNvPicPr/>
          <p:nvPr/>
        </p:nvPicPr>
        <p:blipFill>
          <a:blip r:embed="rId1"/>
          <a:stretch/>
        </p:blipFill>
        <p:spPr>
          <a:xfrm>
            <a:off x="4581360" y="7451640"/>
            <a:ext cx="1800360" cy="154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santillanaT2002"/>
          <p:cNvPicPr/>
          <p:nvPr/>
        </p:nvPicPr>
        <p:blipFill>
          <a:blip r:embed="rId2"/>
          <a:stretch/>
        </p:blipFill>
        <p:spPr>
          <a:xfrm>
            <a:off x="2492280" y="7380360"/>
            <a:ext cx="1584360" cy="154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santillanaT2003"/>
          <p:cNvPicPr/>
          <p:nvPr/>
        </p:nvPicPr>
        <p:blipFill>
          <a:blip r:embed="rId3"/>
          <a:stretch/>
        </p:blipFill>
        <p:spPr>
          <a:xfrm>
            <a:off x="404640" y="7451640"/>
            <a:ext cx="1584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84120" y="27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73200" y="246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920240" y="1792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triente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89000" y="684360"/>
          <a:ext cx="6480000" cy="388908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2376360"/>
                <a:gridCol w="1584360"/>
              </a:tblGrid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a, sacarosa, almidón, glucógeno  y celulo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: glucosa, sacarosa, almidón y celulo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: glucóg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a (corto plaz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(celulos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te, grasa, cera, colesterol, esteroide e isopreno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: aceite, cera, isopreno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: grasa, cera, colesterol, estero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a (largo plaz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(membrana celul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ágeno, queratina, hemoglobina, …, y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i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os vegetales (legumbr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y reguladora (enci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D, E y K (lípi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y familia de la B (nucleóti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es y bacterias, fres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 mi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ruros, fosfatos o carbonatos de K, Na o 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es y leche (cal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a y plástica (cal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55"/>
          <p:cNvSpPr/>
          <p:nvPr/>
        </p:nvSpPr>
        <p:spPr>
          <a:xfrm rot="16200000">
            <a:off x="439560" y="1798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4"/>
          <p:cNvSpPr/>
          <p:nvPr/>
        </p:nvSpPr>
        <p:spPr>
          <a:xfrm>
            <a:off x="2424240" y="47815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9"/>
          <p:cNvSpPr/>
          <p:nvPr/>
        </p:nvSpPr>
        <p:spPr>
          <a:xfrm>
            <a:off x="260280" y="5076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gún la proporción de glúcidos, lípidos, proteínas, vitaminas y mine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composición nutricional) que presente un alimento podemos clasificarlos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0280" y="5724360"/>
          <a:ext cx="6337440" cy="2303640"/>
        </p:xfrm>
        <a:graphic>
          <a:graphicData uri="http://schemas.openxmlformats.org/drawingml/2006/table">
            <a:tbl>
              <a:tblPr/>
              <a:tblGrid>
                <a:gridCol w="2113200"/>
                <a:gridCol w="1631880"/>
                <a:gridCol w="259236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 may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o pl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 pl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 (azúcar y/o almid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ería, pastelería, panes, pastas, patatas (bolsas), zumos y frut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ería, salsas, fritos, frutos se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, huevos, leche y derivados (yogures, quesos, …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umbres, soja, frutos secos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es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s y /o mi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uras y hortalizas frescas, frutas del tiempo, setas, algas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74"/>
          <p:cNvSpPr/>
          <p:nvPr/>
        </p:nvSpPr>
        <p:spPr>
          <a:xfrm>
            <a:off x="1204920" y="608328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0"/>
          <p:cNvSpPr/>
          <p:nvPr/>
        </p:nvSpPr>
        <p:spPr>
          <a:xfrm>
            <a:off x="1341360" y="6443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1"/>
          <p:cNvSpPr/>
          <p:nvPr/>
        </p:nvSpPr>
        <p:spPr>
          <a:xfrm>
            <a:off x="298800" y="8113680"/>
            <a:ext cx="45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*) contienen nutrientes que los animales no podemos sintetiz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24520" y="21420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2. El valor energético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33360" y="631800"/>
            <a:ext cx="621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nutrientes al oxidarse (quemarse) liberan energía (y residuos). La energía liberada se mide en calorías (cal) o julios (j), siendo la equivalencia 1cal= 4,18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0040" y="11160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da nutriente libera una cantidad determinada de energía y de residuos. En gener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5920" y="1403280"/>
          <a:ext cx="6172200" cy="1096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g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genera como residu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y U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Line 105"/>
          <p:cNvSpPr/>
          <p:nvPr/>
        </p:nvSpPr>
        <p:spPr>
          <a:xfrm>
            <a:off x="1555920" y="1835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6"/>
          <p:cNvSpPr/>
          <p:nvPr/>
        </p:nvSpPr>
        <p:spPr>
          <a:xfrm>
            <a:off x="1555920" y="2089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>
            <a:off x="1555920" y="2340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8"/>
          <p:cNvSpPr/>
          <p:nvPr/>
        </p:nvSpPr>
        <p:spPr>
          <a:xfrm>
            <a:off x="3500280" y="1835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9"/>
          <p:cNvSpPr/>
          <p:nvPr/>
        </p:nvSpPr>
        <p:spPr>
          <a:xfrm>
            <a:off x="3500280" y="20955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1"/>
          <p:cNvSpPr/>
          <p:nvPr/>
        </p:nvSpPr>
        <p:spPr>
          <a:xfrm>
            <a:off x="536760" y="446256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3. Necesidades energéticas del se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2"/>
          <p:cNvSpPr/>
          <p:nvPr/>
        </p:nvSpPr>
        <p:spPr>
          <a:xfrm>
            <a:off x="387000" y="4869000"/>
            <a:ext cx="52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ntro de las necesidades energéticas del ser humano se diferencia en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3"/>
          <p:cNvSpPr/>
          <p:nvPr/>
        </p:nvSpPr>
        <p:spPr>
          <a:xfrm>
            <a:off x="404640" y="515772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TMB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 (tasa metabólica basal)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son las calorías consumidas por día, en reposo absoluto y a una temperatura constante de unos 25ºC, es decir, la energía mínima para sobreviv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valor depende de: edad, sexo, peso o talla y estado de sal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4"/>
          <p:cNvSpPr/>
          <p:nvPr/>
        </p:nvSpPr>
        <p:spPr>
          <a:xfrm>
            <a:off x="404640" y="587700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Tasa metabólica rea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que es la TMB más la energía requerida durante el día según el grado de actividad física y m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valor depende de la actividades que se realicen durante el d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8" descr="santillanaT2005"/>
          <p:cNvPicPr/>
          <p:nvPr/>
        </p:nvPicPr>
        <p:blipFill>
          <a:blip r:embed="rId1"/>
          <a:srcRect l="2613" t="0" r="2807" b="0"/>
          <a:stretch/>
        </p:blipFill>
        <p:spPr>
          <a:xfrm>
            <a:off x="115920" y="6576840"/>
            <a:ext cx="6624720" cy="253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2" descr="santillanaT2004"/>
          <p:cNvPicPr/>
          <p:nvPr/>
        </p:nvPicPr>
        <p:blipFill>
          <a:blip r:embed="rId2"/>
          <a:srcRect l="0" t="13662" r="0" b="0"/>
          <a:stretch/>
        </p:blipFill>
        <p:spPr>
          <a:xfrm>
            <a:off x="333360" y="2556000"/>
            <a:ext cx="2562120" cy="189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7"/>
          <p:cNvSpPr/>
          <p:nvPr/>
        </p:nvSpPr>
        <p:spPr>
          <a:xfrm>
            <a:off x="2780640" y="315756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8"/>
          <p:cNvSpPr/>
          <p:nvPr/>
        </p:nvSpPr>
        <p:spPr>
          <a:xfrm>
            <a:off x="2780640" y="356400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9"/>
          <p:cNvSpPr/>
          <p:nvPr/>
        </p:nvSpPr>
        <p:spPr>
          <a:xfrm>
            <a:off x="2780640" y="336060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0"/>
          <p:cNvSpPr/>
          <p:nvPr/>
        </p:nvSpPr>
        <p:spPr>
          <a:xfrm>
            <a:off x="3502080" y="2340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1"/>
          <p:cNvSpPr/>
          <p:nvPr/>
        </p:nvSpPr>
        <p:spPr>
          <a:xfrm>
            <a:off x="3357720" y="3276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2"/>
          <p:cNvSpPr/>
          <p:nvPr/>
        </p:nvSpPr>
        <p:spPr>
          <a:xfrm>
            <a:off x="3357720" y="3479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3"/>
          <p:cNvSpPr/>
          <p:nvPr/>
        </p:nvSpPr>
        <p:spPr>
          <a:xfrm>
            <a:off x="3357720" y="3683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4"/>
          <p:cNvSpPr/>
          <p:nvPr/>
        </p:nvSpPr>
        <p:spPr>
          <a:xfrm>
            <a:off x="4017600" y="315756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8,5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5"/>
          <p:cNvSpPr/>
          <p:nvPr/>
        </p:nvSpPr>
        <p:spPr>
          <a:xfrm>
            <a:off x="4017240" y="35640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1,84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6"/>
          <p:cNvSpPr/>
          <p:nvPr/>
        </p:nvSpPr>
        <p:spPr>
          <a:xfrm>
            <a:off x="4017600" y="336060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5,1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7"/>
          <p:cNvSpPr/>
          <p:nvPr/>
        </p:nvSpPr>
        <p:spPr>
          <a:xfrm>
            <a:off x="4724280" y="3203640"/>
            <a:ext cx="73080" cy="576360"/>
          </a:xfrm>
          <a:custGeom>
            <a:avLst/>
            <a:gdLst>
              <a:gd name="textAreaLeft" fmla="*/ 0 w 73080"/>
              <a:gd name="textAreaRight" fmla="*/ 2628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8"/>
          <p:cNvSpPr/>
          <p:nvPr/>
        </p:nvSpPr>
        <p:spPr>
          <a:xfrm>
            <a:off x="4847040" y="33685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65,44 kcal/100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04720" y="39528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5. Una dieta saludable y equili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000" y="4788000"/>
            <a:ext cx="60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6. Los trastornos relacionados con la 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57200" y="776160"/>
            <a:ext cx="592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et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alimentos que ingerimos a lo largo de un día. Ha de 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leta: ha de incluir todo tipo de nutriente (glúcido, lípido, proteína, sales y vitami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riada: debe incluir diferentes fuentes (alime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quilibrada: los nutrientes deben tener la proporción adecuada a las neces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57200" y="2266920"/>
            <a:ext cx="2971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eta mediterráne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dieta tradicional del entorno del mediterráneo que se caracteriza por inclui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gumbres y pescados como fuente de proteí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eite de oliva y frutos secos como fuente de líp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rutas y verduras como fuente de glúcidos, vitaminas y miner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76280" y="5254560"/>
            <a:ext cx="60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 no hay una dieta equilibrada se producen trastornos alimentarios. Los más destacado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7200" y="5830920"/>
            <a:ext cx="61405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nutrición: falta de nutrientes en dieta. Puede 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tal: dieta insuficiente en todo tipo de nutr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cial: carencia de ciertos nutrientes, generando enfermedades carenciales (avitaminosis, bocio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besidad: ingesta excesiva de nutrientes, sobretodo glúcidos y lípidos, asociados a una vida sedentaria. Genera exceso de grasa corpo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orexia nerviosa: trastorno de la personalidad, con percepción distorsionada de la realidad, que se traduce en una obsesión por el “exceso” de peso y el rechazo a la com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ulimia: trastorno de la personalidad que se traduce en la preocupación excesiva por la figura corporal, con fases de ingesta compulsiva seguidas de fases de arrepentimiento (vómitos auto inflingi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santillanaT2 alimentos005"/>
          <p:cNvPicPr/>
          <p:nvPr/>
        </p:nvPicPr>
        <p:blipFill>
          <a:blip r:embed="rId1"/>
          <a:stretch/>
        </p:blipFill>
        <p:spPr>
          <a:xfrm>
            <a:off x="3502080" y="2340000"/>
            <a:ext cx="1439640" cy="744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santillanaT2 alimentos008"/>
          <p:cNvPicPr/>
          <p:nvPr/>
        </p:nvPicPr>
        <p:blipFill>
          <a:blip r:embed="rId2"/>
          <a:stretch/>
        </p:blipFill>
        <p:spPr>
          <a:xfrm>
            <a:off x="5157720" y="1979640"/>
            <a:ext cx="1440000" cy="129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santillanaT2 alimentos006"/>
          <p:cNvPicPr/>
          <p:nvPr/>
        </p:nvPicPr>
        <p:blipFill>
          <a:blip r:embed="rId3"/>
          <a:stretch/>
        </p:blipFill>
        <p:spPr>
          <a:xfrm>
            <a:off x="4581360" y="2895480"/>
            <a:ext cx="96552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santillanaT2 alimentos007"/>
          <p:cNvPicPr/>
          <p:nvPr/>
        </p:nvPicPr>
        <p:blipFill>
          <a:blip r:embed="rId4"/>
          <a:stretch/>
        </p:blipFill>
        <p:spPr>
          <a:xfrm>
            <a:off x="5445000" y="3492360"/>
            <a:ext cx="1152720" cy="113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santillanaT2 alimentos009"/>
          <p:cNvPicPr/>
          <p:nvPr/>
        </p:nvPicPr>
        <p:blipFill>
          <a:blip r:embed="rId5"/>
          <a:stretch/>
        </p:blipFill>
        <p:spPr>
          <a:xfrm>
            <a:off x="3726000" y="3708360"/>
            <a:ext cx="1574640" cy="92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aceituna"/>
          <p:cNvPicPr/>
          <p:nvPr/>
        </p:nvPicPr>
        <p:blipFill>
          <a:blip r:embed="rId6"/>
          <a:stretch/>
        </p:blipFill>
        <p:spPr>
          <a:xfrm>
            <a:off x="2924280" y="2962440"/>
            <a:ext cx="10792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7440" y="324000"/>
            <a:ext cx="62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7. La conservación y manipulación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57200" y="776160"/>
            <a:ext cx="621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alimentos se deterioran, perdiendo sus cualidades organolépticas,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Oxidars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oxígeno oxida los alimentos cambiando las características del alimento (color, sabor, olor, textura, …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recimiento de microorganism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muchos microorganismos crecen en el alimento, pudiendo ser algunos tóxicos (botulismo) y/o infecciosos (salmonela, coler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193840"/>
            <a:ext cx="62118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evitarlo se desarrollan técnicas de conservación de los alimentos,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imin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 reducción de sus efectos mediante antioxidantes: 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vacío, cítricos, aceit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imin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reducción al máximo de poblacione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organism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río: reduce o para el crecimiento (de refrigerar a ultra congel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or: reduce o elimina las poblaciones (cocer, pasteurizar, esteriliz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hidratar: impide el crecimiento (de secado a liofiliz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itivos: sustancias que frenan o bloquean el crecimiento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urar con: azúcar, sal, aceite, vinagr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r o aromatizar con hiervas (pimienta, romero, ajo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ductos químicos sintét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otr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alimentos, mediante: colorantes, estabilizantes, espesantes, gelificantes, edulcorantes, potenciadores de sabo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santillanaT2 alimentos010"/>
          <p:cNvPicPr/>
          <p:nvPr/>
        </p:nvPicPr>
        <p:blipFill>
          <a:blip r:embed="rId1"/>
          <a:srcRect l="2791" t="0" r="3135" b="0"/>
          <a:stretch/>
        </p:blipFill>
        <p:spPr>
          <a:xfrm>
            <a:off x="187200" y="5724360"/>
            <a:ext cx="6697800" cy="234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312840" y="8055000"/>
            <a:ext cx="628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razabilidad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quellos procedimientos preestablecidos y autosuficientes que permiten conocer el histórico, la ubicación y la trayectoria de un producto o lote de productos a lo largo de la cadena de suministros en un momento dado, a través de unas herramientas determin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5:31:03Z</dcterms:created>
  <dc:creator>Fernando Barajas</dc:creator>
  <dc:description/>
  <dc:language>en-US</dc:language>
  <cp:lastModifiedBy>Admin</cp:lastModifiedBy>
  <dcterms:modified xsi:type="dcterms:W3CDTF">2012-11-07T22:10:49Z</dcterms:modified>
  <cp:revision>35</cp:revision>
  <dc:subject/>
  <dc:title>1. La organización del cuerpo humano</dc:title>
</cp:coreProperties>
</file>